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6A3-59B8-496E-B28E-62104BA1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55C-0F15-4AF9-ACFF-67BD9498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1DE3B-B401-49A5-9D9C-627EFF14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53444-0D16-4F0F-A6FD-53F74737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691DB-8DD4-4F18-995B-91432D96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84DE4-36EF-4D76-8941-AD629524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56828-22AF-45BF-B6A2-386A76E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AF852-8EA1-4955-8097-152C1F05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D8F51-E7C1-4BE0-8A02-7B176047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B0EF1-4B18-4937-9884-CC97CE9D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69329-8992-4CD5-AE79-0E93F6DD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3FD28-C01A-4CE5-97D9-80A83243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A2D-071B-49BA-BA89-A3A3E123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E3022-1AD7-4724-A28F-163D37E1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2DCF0-178C-4733-840C-C337DC6C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80620-F2EC-4486-879F-E3AD807C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FBEE6-AD4C-4D86-B899-5355218B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AF10E-076F-426C-85CA-64A17DC0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6E26B-48B5-4557-914D-5FA77BE8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8920E-8101-475D-80E2-EFB3CC8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BC893-1018-4D6B-B033-FC1C2694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08DE4-4235-4FD8-B0AC-0364D4EF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D3178-CBEF-4BD2-8831-5A4071F4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3A8-F192-4687-9978-E18BC397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C64CF-AC84-468C-8074-734F90A9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073B0-B5B0-44BF-8525-051780C2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DF4D4-8E23-424D-BB4D-FFF70AC6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36114-0217-4B07-A323-5E17EF1B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14FFF-6286-46AA-BFF9-A0DDEE43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F687D-EBD8-48B3-AD47-0ADCE529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57848-50DD-494B-9AEE-90C4E2E4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3D292-952A-44E0-ABF8-AF1C97FD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728B2-34E4-4CA3-9F89-6D0E98DD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13706-ECE5-4D1D-B0C1-2F65542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0FDB-E95F-4200-A877-D289EEBF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0127F-943B-4B3B-A6CD-3E84A735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6B22B-B28C-4E6B-AA92-221B6C16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AE497-46E6-4AB8-95D9-78A6F930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A30D9-DA57-4E3D-BC61-797A61C6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E644C-CDEA-4AFB-9E5F-BA2E456C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75FF7-54D9-48AA-93D5-252A521A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77948-C20F-4FF6-9CB2-73D2D486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804DA-4D8D-4D08-8D19-9D94AB40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CDBF2-FB42-4AF2-AE23-D3F6B678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2A5B7-6089-4A07-B20D-C57D619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478A-24BC-4973-A77E-73B3BDD0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BFFC3-1B29-4E3C-AB68-71FE647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9A9FE-823B-4CC9-8A9A-94B5C858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813AC-F3F7-475C-8416-45865466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11991-95D8-42A4-A2FB-031EBA5B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26C08-746A-47B6-B4FD-4D6E38DA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64CA-087E-4278-963B-8B5C63F0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4837-0E03-4E3A-9E86-9B687320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2A0B-ACD6-4390-AF2E-81339C62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2CB7-F7BA-4162-8747-9C617F04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8723-9A09-48DC-93D3-203F66C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E80-CE4A-4707-A05B-AB440D8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E7EF-53F3-4176-9C04-EB684FD5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00C6-8D3C-4F79-9F8A-0F0BE9F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3E6F-9587-4463-8062-93AAFBDA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D8E8-2C86-4472-B5BC-8EFD9FAB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AD1B-2DFE-47D6-AC12-7B6E02BC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11E2-F5E5-4EC1-A2A7-38878FCC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0ABA-E0B9-4B00-9982-3B48C80B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C1A5-450F-4F31-92FA-D45BF0E2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0D39-34EA-44F6-B706-B722B93F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C795-0EDC-41EA-8B75-1A9B191B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C77-32D3-40F0-8B34-948BE0E3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0FBC-4881-4B2A-832C-D2DCE120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FAD6-3B33-45E8-B3DC-BF738BE8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CABF-F975-437A-A8F0-69E4EDA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C7AA-0AFF-4AC5-9D5C-AC652B9E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56A4-2145-4B83-960C-088B229F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9BA3-B3FE-46A1-AD50-87ADBC6F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B161-9102-40C0-B67C-F953D87F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FD3D-3B3F-4B36-94E2-D8505625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5BEB-7B13-4ADC-A291-CF2551CD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AB838-A013-473C-A521-680981BB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A64-6119-4A32-B6B7-B2505C26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5CA4-4579-4D7B-8214-93923BDC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06A9-9F66-42B5-A870-D7A5E33F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5B17-3597-4095-AABC-BBF90DF2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B7F4-F666-43FE-B042-04BE194B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C6424-BA32-4E81-AB22-99A7AFC5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DC1EF-93DF-4771-B763-66790E7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1A27A-F7D8-43C8-99A5-7B3755A3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3F2F-1B13-403F-A690-7B44239A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9E9F8-88C9-42DE-93F6-26A8061B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32BC2-1D40-426F-A366-7B8353D4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894-C419-4C53-8955-F977815C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A333F-CC79-4DD8-893C-8DF881CF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7E261-EEAB-4663-A4B1-857C13FF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08309-BB6C-49CD-AD01-4DB1CD1E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AA28-22B7-48E4-A03F-DA0C9617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7C22B-EB61-42FB-B439-8250AE9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4E997-50E6-4B09-B024-B5609EB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06AC8-21F7-4F5E-8200-103E137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54A47-BC82-4FD8-B13D-A8EF81CA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8CD73-B9A5-4667-AB0E-2F2C43A0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989ED-9EE3-4653-8237-F3D93662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F87-933B-4C1B-A753-10CA99A4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5478C-C0CE-473C-9269-D22A0563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26F0B-2923-4CB5-BB94-D9591F8A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AB856-D68A-4F0A-B1EE-5A23FEAD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D600E-6ECE-4FD1-8B62-ACAF412B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CE262-CF06-4D8C-8799-116C6856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9A00B-7293-4926-89C1-2DC47A82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4A9FC-7E49-4D0C-A5C0-87E0A407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96252-2FD5-473E-B0C2-67D9C7CB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91BE8-7EA0-484A-88A0-5D149F09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EFDE0-18AD-49C1-814B-5B8AB3E0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D24-A8CE-42D8-A611-3FA1CAAB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7F49-4597-4E63-8599-8475F7E3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A2F5C-53E6-40B4-B17A-09482644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AECB-C9B6-4529-B9AC-3B3EAB2A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9F059-51B4-4A8D-9A6D-F34C8676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339E3-4112-4571-9467-CFDF6E2E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C771A-F994-42A5-A140-0FF93246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BC9A4-6249-409F-BA71-2B966C44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D3644-E725-4B0A-B084-59988FBA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8023C-9748-48BE-A1F8-DD93E9A8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BB2E3-6F97-4E2E-8061-1589A3E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B2B-AEF6-4A4B-BE21-82483F6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B1655-82DE-49DD-8F71-4F377541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FD93B-DD20-45A1-AFE0-EE19355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6BEC-8D67-452B-B2C0-754F984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CF40F-31B2-4328-8C07-0B5FB3DF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37BFA-BB7B-45DC-A144-FE3B4237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5E4AF-82AD-49AD-BB6A-8609713E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03F2A-A954-4CA7-9139-ED9C5995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95362-8EF0-4E56-9A5F-C4EB4202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DDBEE-AE4C-4A00-9D75-E451613E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C38AA-7FAC-4CCE-BB67-68971D4B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9FC-EF01-4C22-B2A5-F38CEACF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3FF4F-3E7B-43A2-AF06-474085A8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D5DB0-D72B-412B-B9BD-DDB31039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653EA-4601-4E2C-B895-D440FF16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2537-35A7-4A61-A731-759FA669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53A90-44E4-44F8-8701-8225C255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DCC0-CAFD-4179-AD39-356CA2BD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F6E55-D07C-4D8C-901A-09AD55F1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4859E-D4FA-4F4A-8EB0-C44721FD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31DE8-18A4-49BF-A171-66433302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6D3E7-266E-4877-8609-839B9CBC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F761-AAF0-4915-84C9-BA00D19760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CFE6-B6A6-435C-907E-2A52261812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3C33-09CA-4C89-A759-84932CFB7E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5AE1-5ACF-4CF2-BD41-377CC461B7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E4CD-E2E7-4D02-84F3-E3FCAD9C1B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71CF-0AC2-4F6F-B48A-893EA3957C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ADAD-2E1D-4914-9059-AD1EA25788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0795-99D5-4AD1-AC2C-ABC3C1A655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4525-48F8-43BB-9AF1-2E2A95EAF6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DFC9-EFB5-4543-BB05-2710C6C945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D6AB-BAF1-45D8-9102-B1A194B861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02E5-0673-42AF-AE6B-857C2D481D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4 Nech teba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 z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eba, Pane, chváli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neba šíry st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kráľovský máš diadé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mocný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kráľovský máš diadé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mocný Kráľ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vedieť mal by celý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záchrancom si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z lásky si nás zbavil bi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Spasite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z lásky si nás zbavil bi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Spasiteľ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všetkých končí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ajov, mie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všetkých sveta str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nie ti večná sláva,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vševládny náš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nech znie ti večná sláva,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vševládny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ľud sa skláňa pred Teb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osí: Príď už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v sláve svätých anjel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večný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v sláve svätých anjel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večný Kráľ a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14T17:57:56Z</dcterms:modified>
  <cp:revision>11</cp:revision>
  <dc:subject/>
  <dc:title>Je veľký náš Pán, on slávy je Kráľ Nech do všetkých strán  spev vrúcnych znie chvál.</dc:title>
</cp:coreProperties>
</file>